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A48-BFF8-4ADD-A9D6-E38ED526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03D-37DE-40C8-8F98-1EF41AB5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A11-449C-492B-96ED-0E0A4F03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1CF-206D-4899-806C-09FC445E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638-4244-40EA-A8ED-2A985538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F60-4D56-4531-8527-8DE73EAB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346-CA10-4E59-AE74-EC38964C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164-40EA-486E-AE63-6854A352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99E-9519-45B4-933F-53CE5EFC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683-BA03-426D-82B7-44D7993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645-BFC1-46A8-A31F-F3BE72F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B38-B98E-4090-8867-532A70AE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E77-B53E-4880-8A1C-3DD132E8B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709720" y="1909800"/>
            <a:ext cx="3724560" cy="30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 conditionnel 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ésent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   françai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8" descr="C:\Users\pluckett\AppData\Local\Microsoft\Windows\Temporary Internet Files\Content.IE5\SB7FY8MW\MP900405290[1].jpg"/>
          <p:cNvPicPr/>
          <p:nvPr/>
        </p:nvPicPr>
        <p:blipFill>
          <a:blip r:embed="rId1"/>
          <a:stretch/>
        </p:blipFill>
        <p:spPr>
          <a:xfrm>
            <a:off x="6019920" y="2971800"/>
            <a:ext cx="2573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28800" y="1066680"/>
            <a:ext cx="579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00ff"/>
                </a:solidFill>
                <a:latin typeface="Times New Roman"/>
                <a:ea typeface="Arial Unicode MS"/>
              </a:rPr>
              <a:t>Remarque :</a:t>
            </a:r>
            <a:r>
              <a:rPr b="0" lang="fr-BE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es verbes qui sont irréguliers au futur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nt aussi irréguli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u conditionnel présent 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752480" y="380880"/>
            <a:ext cx="688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emple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les </a:t>
            </a:r>
            <a:r>
              <a:rPr b="0" lang="fr-BE" sz="3200" spc="-1" strike="noStrike" u="sng">
                <a:solidFill>
                  <a:srgbClr val="ff3300"/>
                </a:solidFill>
                <a:uFillTx/>
                <a:latin typeface="Times New Roman"/>
                <a:ea typeface="Arial Unicode MS"/>
              </a:rPr>
              <a:t>verbes à changements ortographiques</a:t>
            </a:r>
            <a:r>
              <a:rPr b="0" lang="fr-BE" sz="32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 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87240" y="1523880"/>
            <a:ext cx="336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</a:t>
            </a:r>
            <a:r>
              <a:rPr b="1" lang="fr-FR" sz="2400" spc="-1" strike="noStrike">
                <a:solidFill>
                  <a:srgbClr val="ff33cc"/>
                </a:solidFill>
                <a:latin typeface="Arial Unicode MS"/>
                <a:ea typeface="Arial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 : je pa</a:t>
            </a:r>
            <a:r>
              <a:rPr b="1" lang="fr-FR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su</a:t>
            </a:r>
            <a:r>
              <a:rPr b="1" lang="fr-FR" sz="2400" spc="-1" strike="noStrike">
                <a:solidFill>
                  <a:srgbClr val="ff33cc"/>
                </a:solidFill>
                <a:latin typeface="Arial Unicode MS"/>
                <a:ea typeface="Arial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 : tu essu</a:t>
            </a:r>
            <a:r>
              <a:rPr b="1" lang="fr-FR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netto</a:t>
            </a:r>
            <a:r>
              <a:rPr b="1" lang="fr-FR" sz="2400" spc="-1" strike="noStrike">
                <a:solidFill>
                  <a:srgbClr val="ff33cc"/>
                </a:solidFill>
                <a:latin typeface="Arial Unicode MS"/>
                <a:ea typeface="Arial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 :il netto</a:t>
            </a:r>
            <a:r>
              <a:rPr b="1" lang="fr-FR" sz="2400" spc="-1" strike="noStrike">
                <a:solidFill>
                  <a:srgbClr val="ff3300"/>
                </a:solidFill>
                <a:latin typeface="Arial Unicode MS"/>
                <a:ea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546440" y="1812960"/>
            <a:ext cx="38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Le  </a:t>
            </a:r>
            <a:r>
              <a:rPr b="1" i="1" lang="fr-FR" sz="3600" spc="-1" strike="noStrike" u="sng">
                <a:solidFill>
                  <a:srgbClr val="3333cc"/>
                </a:solidFill>
                <a:uFillTx/>
                <a:latin typeface="ZapfHumnst BT"/>
                <a:ea typeface="Arial"/>
              </a:rPr>
              <a:t>« 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ZapfHumnst BT"/>
                <a:ea typeface="Arial"/>
              </a:rPr>
              <a:t>y</a:t>
            </a:r>
            <a:r>
              <a:rPr b="1" i="1" lang="fr-FR" sz="3600" spc="-1" strike="noStrike" u="sng">
                <a:solidFill>
                  <a:srgbClr val="3333cc"/>
                </a:solidFill>
                <a:uFillTx/>
                <a:latin typeface="ZapfHumnst BT"/>
                <a:ea typeface="Arial"/>
              </a:rPr>
              <a:t> » </a:t>
            </a:r>
            <a:r>
              <a:rPr b="1" i="1" lang="fr-FR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 devi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 </a:t>
            </a:r>
            <a:r>
              <a:rPr b="1" i="1" lang="fr-FR" sz="3600" spc="-1" strike="noStrike" u="sng">
                <a:solidFill>
                  <a:srgbClr val="ff3300"/>
                </a:solidFill>
                <a:uFillTx/>
                <a:latin typeface="ZapfHumnst BT"/>
                <a:ea typeface="Arial"/>
              </a:rPr>
              <a:t>« 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ZapfHumnst BT"/>
                <a:ea typeface="Arial"/>
              </a:rPr>
              <a:t>i</a:t>
            </a:r>
            <a:r>
              <a:rPr b="1" i="1" lang="fr-FR" sz="3600" spc="-1" strike="noStrike" u="sng">
                <a:solidFill>
                  <a:srgbClr val="ff3300"/>
                </a:solidFill>
                <a:uFillTx/>
                <a:latin typeface="ZapfHumnst BT"/>
                <a:ea typeface="Arial"/>
              </a:rPr>
              <a:t> » </a:t>
            </a:r>
            <a:r>
              <a:rPr b="1" i="1" lang="fr-FR" sz="36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 devant u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 u="sng">
                <a:solidFill>
                  <a:srgbClr val="ff9933"/>
                </a:solidFill>
                <a:uFillTx/>
                <a:latin typeface="ZapfHumnst BT"/>
                <a:ea typeface="Arial"/>
              </a:rPr>
              <a:t>« e » mue</a:t>
            </a:r>
            <a:r>
              <a:rPr b="1" i="1" lang="en-US" sz="3600" spc="-1" strike="noStrike" u="sng">
                <a:solidFill>
                  <a:srgbClr val="ff9933"/>
                </a:solidFill>
                <a:uFillTx/>
                <a:latin typeface="ZapfHumnst BT"/>
                <a:ea typeface="Arial"/>
              </a:rPr>
              <a:t>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76400" y="1600200"/>
            <a:ext cx="7643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prom</a:t>
            </a:r>
            <a:r>
              <a:rPr b="0" lang="fr-FR" sz="4000" spc="-1" strike="noStrike">
                <a:solidFill>
                  <a:srgbClr val="3333cc"/>
                </a:solidFill>
                <a:latin typeface="ZapfHumnst BT"/>
                <a:ea typeface="Arial"/>
              </a:rPr>
              <a:t>e</a:t>
            </a:r>
            <a:r>
              <a:rPr b="0" lang="fr-FR" sz="4000" spc="-1" strike="noStrike">
                <a:solidFill>
                  <a:srgbClr val="ff9933"/>
                </a:solidFill>
                <a:latin typeface="ZapfHumnst BT"/>
                <a:ea typeface="Arial"/>
              </a:rPr>
              <a:t>n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r 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nous prom</a:t>
            </a:r>
            <a:r>
              <a:rPr b="1" lang="fr-FR" sz="4000" spc="-1" strike="noStrike">
                <a:solidFill>
                  <a:srgbClr val="ff3300"/>
                </a:solidFill>
                <a:latin typeface="ZapfHumnst BT"/>
                <a:ea typeface="Arial"/>
              </a:rPr>
              <a:t>è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ner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mm</a:t>
            </a:r>
            <a:r>
              <a:rPr b="0" lang="fr-FR" sz="4000" spc="-1" strike="noStrike">
                <a:solidFill>
                  <a:srgbClr val="3333cc"/>
                </a:solidFill>
                <a:latin typeface="ZapfHumnst BT"/>
                <a:ea typeface="Arial"/>
              </a:rPr>
              <a:t>e</a:t>
            </a:r>
            <a:r>
              <a:rPr b="0" lang="fr-FR" sz="4000" spc="-1" strike="noStrike">
                <a:solidFill>
                  <a:srgbClr val="ff9933"/>
                </a:solidFill>
                <a:latin typeface="ZapfHumnst BT"/>
                <a:ea typeface="Arial"/>
              </a:rPr>
              <a:t>n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r  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tu emm</a:t>
            </a:r>
            <a:r>
              <a:rPr b="1" lang="fr-FR" sz="4000" spc="-1" strike="noStrike">
                <a:solidFill>
                  <a:srgbClr val="ff3300"/>
                </a:solidFill>
                <a:latin typeface="ZapfHumnst BT"/>
                <a:ea typeface="Arial"/>
              </a:rPr>
              <a:t>è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nerai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p</a:t>
            </a:r>
            <a:r>
              <a:rPr b="0" lang="fr-FR" sz="4000" spc="-1" strike="noStrike">
                <a:solidFill>
                  <a:srgbClr val="3333cc"/>
                </a:solidFill>
                <a:latin typeface="ZapfHumnst BT"/>
                <a:ea typeface="Arial"/>
              </a:rPr>
              <a:t>e</a:t>
            </a:r>
            <a:r>
              <a:rPr b="0" lang="fr-FR" sz="4000" spc="-1" strike="noStrike">
                <a:solidFill>
                  <a:srgbClr val="ff9933"/>
                </a:solidFill>
                <a:latin typeface="ZapfHumnst BT"/>
                <a:ea typeface="Arial"/>
              </a:rPr>
              <a:t>s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er</a:t>
            </a: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on p</a:t>
            </a:r>
            <a:r>
              <a:rPr b="1" lang="fr-FR" sz="4000" spc="-1" strike="noStrike">
                <a:solidFill>
                  <a:srgbClr val="ff3300"/>
                </a:solidFill>
                <a:latin typeface="ZapfHumnst BT"/>
                <a:ea typeface="Arial"/>
              </a:rPr>
              <a:t>è</a:t>
            </a:r>
            <a:r>
              <a:rPr b="1" lang="fr-FR" sz="4000" spc="-1" strike="noStrike">
                <a:solidFill>
                  <a:srgbClr val="000000"/>
                </a:solidFill>
                <a:latin typeface="ZapfHumnst BT"/>
                <a:ea typeface="Arial"/>
              </a:rPr>
              <a:t>sera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13360" y="4222800"/>
            <a:ext cx="72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Les verbes  en «e + consonne+ er 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changent le premier «e » en «è 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ZapfHumnst BT"/>
                <a:ea typeface="Arial"/>
              </a:rPr>
              <a:t>devant un «e muet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827720" y="1130400"/>
            <a:ext cx="488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je</a:t>
            </a:r>
            <a:r>
              <a:rPr b="1" lang="fr-FR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t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nous je</a:t>
            </a:r>
            <a:r>
              <a:rPr b="1" lang="fr-FR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tt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ppe</a:t>
            </a:r>
            <a:r>
              <a:rPr b="1" lang="fr-FR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l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ls appe</a:t>
            </a:r>
            <a:r>
              <a:rPr b="1" lang="fr-FR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ll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ra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670040" y="2577960"/>
            <a:ext cx="603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Les verbes en «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-</a:t>
            </a: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ler » et en «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-</a:t>
            </a: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ter 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doublent  cette conson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33cc33"/>
                </a:solidFill>
                <a:uFillTx/>
                <a:latin typeface="Times New Roman"/>
                <a:ea typeface="Arial"/>
              </a:rPr>
              <a:t>devant un «e » mu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055880" y="4235400"/>
            <a:ext cx="67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33cc"/>
                </a:solidFill>
                <a:uFillTx/>
                <a:latin typeface="Times New Roman"/>
                <a:ea typeface="Times New Roman"/>
              </a:rPr>
              <a:t>exception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: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eter --&gt; j’ach</a:t>
            </a:r>
            <a:r>
              <a:rPr b="0" lang="fr-FR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è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is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23880" y="1219320"/>
            <a:ext cx="5769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Essayez de deviner 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conditionnel prése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es verbes irréguli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suivant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915840" y="121932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avoir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653200" y="1187280"/>
            <a:ext cx="186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’a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59000" y="228600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aller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687760" y="2209680"/>
            <a:ext cx="140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’i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15840" y="350532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faire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622240" y="3352680"/>
            <a:ext cx="206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fe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63560" y="441972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devoir</a:t>
            </a:r>
            <a:r>
              <a:rPr b="0" lang="fr-BE" sz="40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612880" y="4419720"/>
            <a:ext cx="24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dev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71120" y="228600"/>
            <a:ext cx="114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ê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34120" y="228600"/>
            <a:ext cx="25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se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66360" y="990720"/>
            <a:ext cx="201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ou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164560" y="838080"/>
            <a:ext cx="27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pour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57440" y="1752480"/>
            <a:ext cx="159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cour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111640" y="1523880"/>
            <a:ext cx="26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cour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59160" y="2438280"/>
            <a:ext cx="182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mour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165640" y="2286000"/>
            <a:ext cx="29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mour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56640" y="3200400"/>
            <a:ext cx="211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rece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5100840" y="3048120"/>
            <a:ext cx="288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recev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60240" y="3809880"/>
            <a:ext cx="16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sa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100120" y="3733920"/>
            <a:ext cx="244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sau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598680" y="441972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fall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122440" y="4419720"/>
            <a:ext cx="247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il faudra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98320" y="5105520"/>
            <a:ext cx="18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voul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110560" y="5105520"/>
            <a:ext cx="279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je voudr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42080" y="1676520"/>
            <a:ext cx="7288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 u="sng">
                <a:solidFill>
                  <a:srgbClr val="ff3300"/>
                </a:solidFill>
                <a:uFillTx/>
                <a:latin typeface="ZapfHumnst BT"/>
                <a:ea typeface="Times New Roman"/>
              </a:rPr>
              <a:t>Quand utilise-t-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 u="sng">
                <a:solidFill>
                  <a:srgbClr val="ff3300"/>
                </a:solidFill>
                <a:uFillTx/>
                <a:latin typeface="ZapfHumnst BT"/>
                <a:ea typeface="Times New Roman"/>
              </a:rPr>
              <a:t>le conditionne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600" spc="-1" strike="noStrike" u="sng">
                <a:solidFill>
                  <a:srgbClr val="ff3300"/>
                </a:solidFill>
                <a:uFillTx/>
                <a:latin typeface="ZapfHumnst BT"/>
                <a:ea typeface="Times New Roman"/>
              </a:rPr>
              <a:t>présent ?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063520" y="685800"/>
            <a:ext cx="476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 u="sng">
                <a:solidFill>
                  <a:srgbClr val="cc00ff"/>
                </a:solidFill>
                <a:uFillTx/>
                <a:latin typeface="ZapfHumnst BT"/>
                <a:ea typeface="Times New Roman"/>
              </a:rPr>
              <a:t>pour un conseil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ZapfHumnst BT"/>
                <a:ea typeface="Times New Roman"/>
              </a:rPr>
              <a:t>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5800" y="167652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u </a:t>
            </a:r>
            <a:r>
              <a:rPr b="0" lang="fr-BE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erai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ieux d’étudier, plut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ô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 que de regarder la télé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3557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24382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 u="sng">
                <a:solidFill>
                  <a:srgbClr val="cc00ff"/>
                </a:solidFill>
                <a:uFillTx/>
                <a:latin typeface="ZapfHumnst BT"/>
                <a:ea typeface="Times New Roman"/>
              </a:rPr>
              <a:t>pour une action dont la réalisation dépend d’une condition 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ZapfHumnst BT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2716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09480" y="3962520"/>
            <a:ext cx="795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j’avais des vacances, j’</a:t>
            </a:r>
            <a:r>
              <a:rPr b="0" lang="fr-BE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rai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élébrer le carnaval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Nouvelle Orléans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76160" y="5137200"/>
            <a:ext cx="70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Dans ces deux cas, le conditionnel 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traduit par « </a:t>
            </a:r>
            <a:r>
              <a:rPr b="0" i="1" lang="fr-BE" sz="32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would </a:t>
            </a:r>
            <a:r>
              <a:rPr b="0" i="1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» en anglai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75800" y="822240"/>
            <a:ext cx="566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ditionnel  prés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« vouloir » indique </a:t>
            </a:r>
            <a:r>
              <a:rPr b="0" lang="fr-BE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quête polie</a:t>
            </a: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se tradu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«  </a:t>
            </a:r>
            <a:r>
              <a:rPr b="0" lang="fr-BE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would like</a:t>
            </a:r>
            <a:r>
              <a:rPr b="0" lang="fr-B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» 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447560" y="3995640"/>
            <a:ext cx="530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e </a:t>
            </a:r>
            <a:r>
              <a:rPr b="0" i="1" lang="fr-BE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voudrais</a:t>
            </a:r>
            <a:r>
              <a:rPr b="0" i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ne poutin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’il vous plait 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3"/>
          <p:cNvSpPr txBox="1"/>
          <p:nvPr/>
        </p:nvSpPr>
        <p:spPr>
          <a:xfrm>
            <a:off x="2438280" y="990720"/>
            <a:ext cx="40388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 conditionnel est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 mode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s un temps. 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296720" y="533520"/>
            <a:ext cx="7140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Le conditionnel pré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de  «aimer » indique </a:t>
            </a:r>
            <a:r>
              <a:rPr b="1" lang="fr-BE" sz="3600" spc="-1" strike="noStrike" u="sng">
                <a:solidFill>
                  <a:srgbClr val="3333cc"/>
                </a:solidFill>
                <a:uFillTx/>
                <a:latin typeface="Times New Roman"/>
                <a:ea typeface="Arial Unicode MS"/>
              </a:rPr>
              <a:t>un souhait</a:t>
            </a: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t se traduit aussi par</a:t>
            </a:r>
            <a:r>
              <a:rPr b="1" lang="fr-BE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«</a:t>
            </a:r>
            <a:r>
              <a:rPr b="1" lang="fr-BE" sz="3600" spc="-1" strike="noStrike">
                <a:solidFill>
                  <a:srgbClr val="ff33cc"/>
                </a:solidFill>
                <a:latin typeface="Times New Roman"/>
                <a:ea typeface="Arial Unicode MS"/>
              </a:rPr>
              <a:t>would like</a:t>
            </a:r>
            <a:r>
              <a:rPr b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95280" y="2666880"/>
            <a:ext cx="6797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h, comme j’</a:t>
            </a:r>
            <a:r>
              <a:rPr b="1" lang="fr-BE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aimerais</a:t>
            </a:r>
            <a:r>
              <a:rPr b="1" lang="fr-BE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oyager en Louisiane 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143000" y="380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Faites les e</a:t>
            </a: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xercice</a:t>
            </a:r>
            <a:r>
              <a:rPr b="1" lang="en-US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s</a:t>
            </a: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  Internet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ligne</a:t>
            </a:r>
            <a:r>
              <a:rPr b="1" lang="en-US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 suivants</a:t>
            </a:r>
            <a:r>
              <a:rPr b="1" lang="fr-FR" sz="2800" spc="-1" strike="noStrike">
                <a:solidFill>
                  <a:srgbClr val="ff3300"/>
                </a:solidFill>
                <a:latin typeface="ZapfHumnst BT"/>
                <a:ea typeface="Arial"/>
              </a:rPr>
              <a:t> sur le conditionnel présent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76520" y="1752480"/>
            <a:ext cx="870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rench.about.com/library/weekly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121199t.h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quia.com/servlets/quia.activities.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Player?AP_rand=168742636&amp;AP_activityType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&amp;AP_urlId=9758&amp;AP_continuePlay=true&amp;id=9758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3"/>
          <p:cNvSpPr txBox="1"/>
          <p:nvPr/>
        </p:nvSpPr>
        <p:spPr>
          <a:xfrm>
            <a:off x="2362320" y="1600200"/>
            <a:ext cx="50292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l veut exprimer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rtaines nuances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 l’action telles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 l’éventualité,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courtoisie,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 souhait,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'incértitude ..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74880" y="171756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447920" y="685800"/>
            <a:ext cx="60451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4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…  </a:t>
            </a:r>
            <a:r>
              <a:rPr b="0" lang="fr-BE" sz="44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On l’utilise aussi pour  exprimer des actions dont la réalisation dépend de certaines condi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357560" y="1295280"/>
            <a:ext cx="52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Commen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forme-t-o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le conditionn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ZapfHumnst BT"/>
              </a:rPr>
              <a:t>présen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71600" y="38088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a formation 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assez simple 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4320" y="2133720"/>
            <a:ext cx="46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*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n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ilise</a:t>
            </a:r>
            <a:r>
              <a:rPr b="1" lang="fr-FR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l'infinitif</a:t>
            </a:r>
            <a:r>
              <a:rPr b="0" lang="fr-FR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00200" y="281952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*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On l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isse tomber le </a:t>
            </a:r>
            <a:r>
              <a:rPr b="1" lang="fr-FR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« e »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quand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'infinitif se termine par </a:t>
            </a:r>
            <a:r>
              <a:rPr b="1" lang="fr-FR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« e ».</a:t>
            </a:r>
            <a:r>
              <a:rPr b="1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0" lang="fr-FR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39280" y="4267080"/>
            <a:ext cx="700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*  On y a</a:t>
            </a:r>
            <a:r>
              <a:rPr b="1" lang="fr-FR" sz="36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joute </a:t>
            </a:r>
            <a:r>
              <a:rPr b="1" lang="fr-FR" sz="3600" spc="-1" strike="noStrike">
                <a:solidFill>
                  <a:srgbClr val="cc00ff"/>
                </a:solidFill>
                <a:latin typeface="ZapfHumnst BT"/>
                <a:ea typeface="Times New Roman"/>
              </a:rPr>
              <a:t>la terminai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ZapfHumnst BT"/>
                <a:ea typeface="Times New Roman"/>
              </a:rPr>
              <a:t>    </a:t>
            </a:r>
            <a:r>
              <a:rPr b="1" lang="fr-FR" sz="3600" spc="-1" strike="noStrike">
                <a:solidFill>
                  <a:srgbClr val="cc00ff"/>
                </a:solidFill>
                <a:latin typeface="ZapfHumnst BT"/>
                <a:ea typeface="Times New Roman"/>
              </a:rPr>
              <a:t>de l'imparfait</a:t>
            </a:r>
            <a:r>
              <a:rPr b="1" lang="fr-FR" sz="3600" spc="-1" strike="noStrike">
                <a:solidFill>
                  <a:srgbClr val="ff3300"/>
                </a:solidFill>
                <a:latin typeface="ZapfHumnst BT"/>
                <a:ea typeface="Times New Roman"/>
              </a:rPr>
              <a:t> 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AIS, AIS, AIT, IONS, IEZ, A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21120" y="457200"/>
            <a:ext cx="757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ex1 : JOUER </a:t>
            </a:r>
            <a:r>
              <a:rPr b="1" lang="fr-BE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 </a:t>
            </a: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je jouer  + AIS etc. --</a:t>
            </a:r>
            <a:r>
              <a:rPr b="1" lang="fr-BE" sz="40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1" lang="fr-BE" sz="4000" spc="-1" strike="noStrike">
                <a:solidFill>
                  <a:srgbClr val="ff33cc"/>
                </a:solidFill>
                <a:latin typeface="ZapfHumnst BT"/>
                <a:ea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17040" y="2254320"/>
            <a:ext cx="31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e 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088640" y="2940120"/>
            <a:ext cx="27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u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88920" y="3701880"/>
            <a:ext cx="29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l/elle/on    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073880" y="4311720"/>
            <a:ext cx="30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us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jouer</a:t>
            </a:r>
            <a:r>
              <a:rPr b="1" lang="fr-BE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74240" y="492768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vous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       jouer</a:t>
            </a:r>
            <a:r>
              <a:rPr b="1" lang="fr-BE" sz="2400" spc="-1" strike="noStrike">
                <a:solidFill>
                  <a:srgbClr val="3333cc"/>
                </a:solidFill>
                <a:latin typeface="ZapfHumnst BT"/>
                <a:ea typeface="Times New Roman"/>
              </a:rPr>
              <a:t>iez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939240" y="546084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ils/elles       jouer</a:t>
            </a:r>
            <a:r>
              <a:rPr b="1" lang="fr-BE" sz="2400" spc="-1" strike="noStrike">
                <a:solidFill>
                  <a:srgbClr val="3333cc"/>
                </a:solidFill>
                <a:latin typeface="ZapfHumnst BT"/>
                <a:ea typeface="Times New Roman"/>
              </a:rPr>
              <a:t>a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452240" y="457200"/>
            <a:ext cx="248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2:  FI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finir + ais etc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/elle/on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s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us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i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s/elles finir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77400" y="380880"/>
            <a:ext cx="666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ex2 : PRENDRE</a:t>
            </a:r>
            <a:r>
              <a:rPr b="1" lang="fr-BE" sz="36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 Je </a:t>
            </a:r>
            <a:r>
              <a:rPr b="1" lang="fr-BE" sz="36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+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prend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moins  le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   « e »  </a:t>
            </a:r>
            <a:r>
              <a:rPr b="1" lang="fr-BE" sz="3600" spc="-1" strike="noStrike">
                <a:solidFill>
                  <a:srgbClr val="ff3300"/>
                </a:solidFill>
                <a:latin typeface="ZapfHumnst BT"/>
                <a:ea typeface="Arial Unicode MS"/>
              </a:rPr>
              <a:t>+</a:t>
            </a:r>
            <a:r>
              <a:rPr b="1" lang="fr-BE" sz="3600" spc="-1" strike="noStrike">
                <a:solidFill>
                  <a:srgbClr val="33cc33"/>
                </a:solidFill>
                <a:latin typeface="ZapfHumnst BT"/>
                <a:ea typeface="Arial Unicode MS"/>
              </a:rPr>
              <a:t> AIS  etc.</a:t>
            </a:r>
            <a:r>
              <a:rPr b="1" lang="fr-BE" sz="36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19280" y="2317680"/>
            <a:ext cx="508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je 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tu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il/elle/on 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nous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vous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Arial Unicode MS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Arial Unicode MS"/>
              </a:rPr>
              <a:t>i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ils/elles 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prendr</a:t>
            </a:r>
            <a:r>
              <a:rPr b="1" lang="fr-BE" sz="3200" spc="-1" strike="noStrike">
                <a:solidFill>
                  <a:srgbClr val="ff9933"/>
                </a:solidFill>
                <a:latin typeface="ZapfHumnst BT"/>
                <a:ea typeface="Times New Roman"/>
              </a:rPr>
              <a:t>aient</a:t>
            </a:r>
            <a:r>
              <a:rPr b="0" lang="fr-FR" sz="3200" spc="-1" strike="noStrike">
                <a:solidFill>
                  <a:srgbClr val="000000"/>
                </a:solidFill>
                <a:latin typeface="ZapfHumnst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04:24:58Z</dcterms:created>
  <dc:creator>Steve</dc:creator>
  <dc:description/>
  <dc:language>en-US</dc:language>
  <cp:lastModifiedBy>pluckett</cp:lastModifiedBy>
  <dcterms:modified xsi:type="dcterms:W3CDTF">2014-04-08T17:39:54Z</dcterms:modified>
  <cp:revision>68</cp:revision>
  <dc:subject/>
  <dc:title>PowerPoint Presentation</dc:title>
</cp:coreProperties>
</file>